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71F-2CA7-4D04-89C0-B5F0B0B6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FCC-EE45-4F66-91DE-A4D37A23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B76-477D-4F7C-825B-634C8B1A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001-04F4-4DFA-ABC1-6E5C013F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179D-A4DF-41B4-8384-E5D901E7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EF9D-2D28-4855-A34F-BE84B29B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3615-E676-44F5-825F-3D3F575B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EAC5-B72D-4D87-9C15-BFA49D07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53C9-DD1A-4CC3-B6EB-36C68AC9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060C-6C04-4FA6-8C85-E95C7888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23B9-6ADF-4D1F-B3B5-A775C628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822-79D4-4D66-8C01-0747FDFA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E5E1-D2F4-46CF-8D68-611442A3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F596-F8C9-4DF8-BE9E-025AB68E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5569-3C7B-4AEC-B13F-46165CA3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E020-8AD9-4C00-A2DF-79B712A2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FFB9-AF69-471E-A0D2-CCAF48B6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AB5-BCF9-4E61-9821-04EF4FF0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939-17BA-41BF-86F2-176928E8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BAC-DAA7-45C4-BE8D-24AA0B35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35F-308D-4CCE-A5E2-6DF5E369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697-C6B3-4BAE-9E30-0BAB8099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8A4-D10C-4C35-9E49-D227EE5B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F51-D855-479C-B75C-F6DD2532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BE2D-52C6-4C8B-B4A6-9DF1E84022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C038-9FB2-42D9-BFC6-2FB77CFBB6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ze.Trusinska@vidm.gov.lv" TargetMode="External"/><Relationship Id="rId2" Type="http://schemas.openxmlformats.org/officeDocument/2006/relationships/hyperlink" Target="http://www.vidm.gov.lv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6000" spc="-1" strike="noStrike">
                <a:solidFill>
                  <a:srgbClr val="ffff00"/>
                </a:solidFill>
                <a:latin typeface="Arial"/>
              </a:rPr>
              <a:t>Vides aizsardzības lietu trīspusējās sadarbības apakšpadomes darbība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Vides aizsardzības lietu trīspusējās sadarbības apakšpadomes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(turpmāk VALTSA)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sastāv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ē ir 15 pārstāvji (pa 5 no katras puses), kurus deleģē Vides ministrija, Latvijas Brīvo Arodbiedrību savienība un Latvijas Darba Devēju konfederā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ALTSA uzdev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zskatīt politikas plānošanas un normatīvo aktu projektus, valsts budžeta projekta pamatnostādne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vides aizsardzības normatīvo aktu pilnveidošan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priekšlikumu izstrādāšanā un izskatīt Latvijas nacionālās pozīcija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arbības meto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tāvīga informācijas apmaiņ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kšanā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dom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ē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izi divos mēnešos(2007. gadā notikušas 5 sanāks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āvīga elektroniskā komunikā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2007. gadā VALTSA sēdēs skatītie jautāj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isijas kvotu sadales plāna 2008.-2012. gadam apstiprināšanas gaita Eiropas Komis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iācijas iekļaušana Eiropas Savienības emisiju kvotu tirdzniecības sistēm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jaunojamo energoresursu izmantošanas pamatnostādņu  2006.-2013. g. ievieša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ikumu projekts „Noteikumi par elektroenerģijas ražošanu izmantojot atjaunojamos energoresurs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ionālais pārskats par Ilgtspējīgas attīstības stratēģijas īstenoša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umprojekts „Grozījumi atkritumu apsaimniekošanas likumā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gtspējīga patēriņa, ražošanas Rīcības plā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ļā iepirkuma veicināšana Latv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ropas Savienības Vides ministru padomes darba kārtības jautāju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2008. gada plānotie jautājumi VALTSA sēdē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ģētikas  un klimata pak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emisijas kvotu tirdzniecības sistē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ārskatīšan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ēmuma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tumnīcefekta gāzu emisijā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kuras neaptver ES emisijas kvotu tirdzniecības sistēm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jaunojamo energoresursu avot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zmantošanu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ācijas radītā ietekme uz klimata pārmaiņā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iropas Savienības Vides padomju izskatāmie darba kārtības jautāju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aļais iepirk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Ilze Trušinska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es sekretā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Ilze.Trusinska@vidm.gov.l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t. 6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vidm.gov.lv/</a:t>
            </a: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sadaļā padomes un konsultatīvās padomes „Vides aizsardzības lietu trīspusējās sadarbības apakšpad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27:45Z</dcterms:created>
  <dc:creator>Aija</dc:creator>
  <dc:description/>
  <dc:language>en-US</dc:language>
  <cp:lastModifiedBy>Sanita Diediske</cp:lastModifiedBy>
  <dcterms:modified xsi:type="dcterms:W3CDTF">2008-05-09T08:36:32Z</dcterms:modified>
  <cp:revision>17</cp:revision>
  <dc:subject/>
  <dc:title>Stratēģijas un koordinācijas departamen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8320886</vt:r8>
  </property>
  <property fmtid="{D5CDD505-2E9C-101B-9397-08002B2CF9AE}" pid="3" name="_AuthorEmail">
    <vt:lpwstr>Ilze.Trusinska@vidm.gov.lv</vt:lpwstr>
  </property>
  <property fmtid="{D5CDD505-2E9C-101B-9397-08002B2CF9AE}" pid="4" name="_AuthorEmailDisplayName">
    <vt:lpwstr>Ilze Trušinska</vt:lpwstr>
  </property>
  <property fmtid="{D5CDD505-2E9C-101B-9397-08002B2CF9AE}" pid="5" name="_EmailSubject">
    <vt:lpwstr>VALTSA darbība_2007. gads</vt:lpwstr>
  </property>
  <property fmtid="{D5CDD505-2E9C-101B-9397-08002B2CF9AE}" pid="6" name="_ReviewingToolsShownOnce">
    <vt:lpwstr/>
  </property>
</Properties>
</file>